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6D0-4B87-4291-B379-0BB95CBF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93A-D9F9-4D77-B458-AFCC10C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64B-9FA3-417E-A99A-05AB88F2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861-6329-4218-861C-E14F15A0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B08-E9C5-4170-9027-6A236E9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A71-DF91-4002-B080-08319992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7A0-93F8-45D0-A0FE-F016412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7B8-4D91-4EA3-86E0-BB9D780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AAC-DF1E-4DA2-8B74-D5745892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C6C-B7FA-4EEB-997F-A1DEAAC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B79-2026-4262-9AEF-22AD8AD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835-D129-4F38-A40C-5A1FA5A4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E38-507A-4388-B566-2BFD10E3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983.edusite.ru/p123aa1.html" TargetMode="External"/><Relationship Id="rId2" Type="http://schemas.openxmlformats.org/officeDocument/2006/relationships/hyperlink" Target="http://clck.yandex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.rus.ec/b/106519/rea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.rus.ec/b/106519/read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Типы реч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5 «б» кл., шк.№1 Роман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рассужд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тип речи, при помощи которого излагается, разъясняется, отрицается или подтверждается какая-либо мыс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ассуждения характерны сложные предложения с обособленными оборотами, различными типами бессоюзной и союзной связи; предложения с союзами однако, хотя, несмотря на, так как, потому что и др.; риторические вопросы, побудительные, вопросительные и восклицательные предложения. Этот тип речи отличается и своеобразной лексикой: употребляется больше слов, обозначающих отвлеченные по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 тексте-рассуждении обычно выделяют три ча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зи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ысказывается основная мысл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эта мысль доказывается или, наоборот, опровергае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673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имер рассуж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же я раздумывал над этой историей. Могли ли люди принять меня за пьяного? Вроде бы нет, вряд ли я производил такое впечатление. Но даже если бы и принимали за пьяного... Они же видели, что я весь в крови, что-то случилось - упал, ударился, - почему же не помогли, не спросили хотя бы, в чем дело? Значит, пройти мимо, не ввязываться, не тратить времени, сил, “меня это не касается” стало чувством привычным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. Гран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 соединяются разные типы речи в одном тек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В тексте соединяются разные типы речи. Соединение типов речи должно быть оправданным: должно определяться замыслом автора, основной мыслью высказы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ЖУ НА ПОЛЯНКУ И ВДРУГ ВИЖУ ВОЗЛЕ СТАРОЙ, ДАВНО НЕ ЕЗЖЕННОЙ ДОРОГИ СРАЗУ ДВА БЕЛЫХ ГРИБА. ДА КАКИХ ЕЩЕ! ШЛЯПКА У КАЖДОГО ЧУТЬ МЕНЬШЕ МОЕГО КАРТУЗА. СРЕЗАЛ ИХ НОЖИЧКОМ. НОЖКИ ТОЛСТЫЕ, КРЕП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ЯКИЙ СЛУЧАЙ ЕЩЁ РАЗОК ОГЛЯДЕЛСЯ ПО СТОРОНАМ, ОГЛЯДЕЛСЯ – И ОБМЕР: ЕЩЕ ДВА ПОЧТИ РЯДОМ С МОИМИ РАСТУТ, А НЕМНОГО ПОДАЛЬШЕ – ЕЩЁ ОДИН. И ВСЕ КАК НА ПОД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ТАКОЙ УДАЧИ Я УЖ ВСЮ ЭТУ ПОЛЯНКУ ПОЛЗКОМ ОБЛАЗИЛ. НО БОЛЬШЕ НИ ОДНОГО НЕ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Г. СКРЕБИЦКИЙ)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вествование + о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ознакомились с типами речи и узнали, как их можно соединять в одном тексте. Теперь мы знаем, как правильно выражать свои мысли на письме и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324144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чебник русского языка для 5 кл., Разумовская М. М., М., 2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усский язык. Изучение речеведческих понятий, Фешина Н. И., Волгоград,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983.edusite.ru/p123aa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ck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jaz.blogi.by/2009/02/18/tipy-re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ученики 5 клас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едмет: русский язы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Программа: Разумовская М. 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6227640" y="1125360"/>
            <a:ext cx="2592360" cy="18702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сновополагающий вопрос: Для чего нужна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чь в нашей жизни необходима, прежде всего для общения. С помощью речи мы можем выражать свои чувства и эмоции. В различных ситуациях, например при общении с родителями,с друзьями, в школе, мы пользуемся разной речью. Поэтому мы должны знать, что такое типы речи, чтобы правильно выражать свои мысли как устно, так и на пис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акие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 речи быв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веств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суж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7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повество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вествование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тип речи, при помощи которого описываются события в их временной последова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ствовательный текст бывает в форме разговорного и художественного с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жественный повествовательный текст строится по определенной композиционной схеме: экспозиция, завязка, развитие действия, кульминация, развяз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аком тексте события могут описываться как в прямом порядке, т.е. в хронологической последовательности, так и в обратной последовательности. В некоторых художественных произведениях действие описывается в хронологической последовательности, но повествователь время от времени может отступать от нее, вспоминая о прошедших событиях, или, наоборот, забегать вперед, сообщая о том, что произойдет в дальнейш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повествования распространена в таком жанре литературы, как воспоминания, пись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ример повествовательного текс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у зиму веселья и танцев Мишель получил извещение из Пскова от своего владельца дома и теперь арендатора о том, что его жена, потеряв ребенка и выйдя замуж, уехала из квартиры, задолжав ему значительную сумму. Она оставила кое-какую мебель, которую арендатор и сосчитает своей, если Мишель не пришлет ему денег в ближайший месяц.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тя это письмо утром, после попойки, Мишель сердито скомкал его и бросил под кровать, с тем чтобы не вспоминать о своей прошлой бесцветной жизни (М. Зощен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 опис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пис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ип речи, при помощи которого изображаются какие-либо явления действительности путем перечисления и раскрытия его основных признаков. Иными словами, при помощи этого типа речи описываются признаки предметов, явлений, человека, животных. В описании часто используются синонимы, согласованные и несогласованные определения, неполные, назывные предложения; больше используются слова, обозначающие качества, свойства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имер опис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не видал глаз более прелестных, чем у Белинского. Голубые, с золотыми искорками в глубине зрачков, эти глаза, в обычное время полузакрытые ресницы, расширялись и сверкали в минуты воодушевления; в минуты веселости взгляд их принимал пленительное выражение приветливой доброты и беспечного счаст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И. Тургене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аиболее характерные элементы опис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представление о предме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признаки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ская оценка, вывод, заклю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ельный текст может быть в форме любого стил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07:09Z</dcterms:created>
  <dc:creator>студент</dc:creator>
  <dc:description/>
  <dc:language>en-US</dc:language>
  <cp:lastModifiedBy>студент</cp:lastModifiedBy>
  <dcterms:modified xsi:type="dcterms:W3CDTF">2010-04-20T10:47:54Z</dcterms:modified>
  <cp:revision>38</cp:revision>
  <dc:subject/>
  <dc:title>Типы речи.</dc:title>
</cp:coreProperties>
</file>